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025-1DFC-40AA-B141-D8952AFC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B47D-5904-4692-AFE9-EE85D03A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565-E603-4C29-B212-67A9531E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615-8B48-4ED3-9067-1BEF0425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9D33-8452-4BAD-A2C6-DBC2C34B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EF5-9E47-4791-8962-772BBBC3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BBB9-F79E-4289-AB32-2953C3B6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9649-B402-4491-866C-FD1E06E3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4D8-50E7-4BE1-BE4C-06401204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63F-18A7-4A15-9E75-FEC4DE3B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7352-4720-412C-8E0F-1E5558E0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5461-2426-4FB8-AF64-25E2EF43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7486-CCB9-4CBC-BEA4-7CB7A4642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nchantedlearning.com/subjects/birds/printouts/Westernmeadowlark.shtml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enchantedlearning.com/usa/states/wyoming/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bensguide.gpo.gov/3-5/state/wyoming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05720" y="5253120"/>
            <a:ext cx="2438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tc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7334280" cy="441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Wyoming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81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5345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Capital: Cheyen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The population for the last Census in 2000 is 493,78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Entered in the Union: July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Kristen ITC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, 18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4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Kristen ITC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Motto: Equal Ri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Nickname: Equality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Meaning behind name: Algonquian for “broad plain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324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risten ITC"/>
              </a:rPr>
              <a:t>Flower: Indian Paintbrush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324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risten ITC"/>
              </a:rPr>
              <a:t>Bird: Western Meadowlark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324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risten ITC"/>
              </a:rPr>
              <a:t>Song: Wyoming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2895480"/>
            <a:ext cx="2152800" cy="2082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705720" y="3200400"/>
            <a:ext cx="2438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yoming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2/11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nchantedlearning.com/usa/states/wyom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Indian Paintbrush"/>
          <p:cNvPicPr/>
          <p:nvPr/>
        </p:nvPicPr>
        <p:blipFill>
          <a:blip r:embed="rId5"/>
          <a:stretch/>
        </p:blipFill>
        <p:spPr>
          <a:xfrm>
            <a:off x="4114800" y="0"/>
            <a:ext cx="1886040" cy="2514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48520" y="304920"/>
            <a:ext cx="27432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 Native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tilleja Coccinea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2/11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grownative.org/plants/info.asp?id=1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Wyoming: Map and State Flag"/>
          <p:cNvPicPr/>
          <p:nvPr/>
        </p:nvPicPr>
        <p:blipFill>
          <a:blip r:embed="rId6"/>
          <a:srcRect l="0" t="39774" r="0" b="0"/>
          <a:stretch/>
        </p:blipFill>
        <p:spPr>
          <a:xfrm>
            <a:off x="3657600" y="5029200"/>
            <a:ext cx="1676520" cy="1662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 rot="705000">
            <a:off x="3809520" y="5867280"/>
            <a:ext cx="1295640" cy="27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896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yom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5396040"/>
            <a:ext cx="228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n’s Guide for U.S Government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uick Facts: Wyoming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/2/11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bensguide.gpo.gov/3-5/state/wyoming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Wyoming: Map and State Flag"/>
          <p:cNvPicPr/>
          <p:nvPr/>
        </p:nvPicPr>
        <p:blipFill>
          <a:blip r:embed="rId1"/>
          <a:srcRect l="0" t="-1513" r="0" b="0"/>
          <a:stretch/>
        </p:blipFill>
        <p:spPr>
          <a:xfrm>
            <a:off x="533520" y="1371600"/>
            <a:ext cx="3025800" cy="5057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705000">
            <a:off x="1066320" y="4647960"/>
            <a:ext cx="2257560" cy="63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yom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2819520"/>
            <a:ext cx="4876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for U.S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: Wyoming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ensguide.gpo.gov/3-5/state/wyoming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522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ouldn’t enjoy a state where the motto is ‘Equal Rights’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7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Kristen ITC"/>
              </a:rPr>
              <a:t>Interesting Fact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Kristen ITC"/>
              </a:rPr>
              <a:t>The highest point in Wyoming is at Gannett Peak which is 13,804 feet high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Kristen ITC"/>
              </a:rPr>
              <a:t>The lowest point in Wyoming is at Belle Fourche River 3,099 feet deep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Kristen ITC"/>
              </a:rPr>
              <a:t>A gem you can find: Jad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All images Copyright © 1997 - 2000 WriteLine. All Rights Reserved. Cheyenne Capitol"/>
          <p:cNvPicPr/>
          <p:nvPr/>
        </p:nvPicPr>
        <p:blipFill>
          <a:blip r:embed="rId2"/>
          <a:stretch/>
        </p:blipFill>
        <p:spPr>
          <a:xfrm>
            <a:off x="0" y="762120"/>
            <a:ext cx="4648320" cy="3098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3733920"/>
            <a:ext cx="28954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eyenne, Wyoming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3/11, http://www.postcardsfrom.com/t1/99080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oming was the first government to allow women to vo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All images Copyright © 1997 - 2000 WriteLine. All Rights Reserved. Rodeo"/>
          <p:cNvPicPr/>
          <p:nvPr/>
        </p:nvPicPr>
        <p:blipFill>
          <a:blip r:embed="rId3"/>
          <a:stretch/>
        </p:blipFill>
        <p:spPr>
          <a:xfrm>
            <a:off x="4572000" y="287028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76920" y="1523880"/>
            <a:ext cx="3657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eyenne Frontier Day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3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ostcardsfrom.com/t1/9908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5791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oming holds the world’s largest outdoor rodeo, called ‘Daddy of ‘em All!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29:00Z</dcterms:created>
  <dc:creator>install</dc:creator>
  <dc:description/>
  <dc:language>en-US</dc:language>
  <cp:lastModifiedBy>install</cp:lastModifiedBy>
  <dcterms:modified xsi:type="dcterms:W3CDTF">2011-03-16T15:55:34Z</dcterms:modified>
  <cp:revision>9</cp:revision>
  <dc:subject/>
  <dc:title>Slide 1</dc:title>
</cp:coreProperties>
</file>